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50D3-026D-4B82-AD56-6986038C1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7C26-4894-40EE-9B7E-48B8E60B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EB35-BBF8-4A98-8EA1-FFD8D4293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4925-9D4E-4D6E-BA59-8E2C3ADAF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8A02-024F-41B3-BEC2-E6F96B66E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96C3-1D63-4DFF-A699-291A3117F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F965-637B-463E-AA0C-F3D359479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F3C3-B986-4C9F-A127-F8BF24448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6D06-9543-4D9F-8168-ACC98C541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F78E-73D1-4330-A477-B8F8475FA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4542-F499-43E8-AC58-64F2913E6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4DEB-22EF-49FA-B4CF-DDEECA8DC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E2CE-5C3F-43C8-A113-CA3862446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4A5D-E227-4AAD-8993-6833F35F9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38C1-0ED2-4983-B082-732448AE0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5C12-0785-477B-8B08-CBBE8931F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3241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A632-D83C-4237-91FE-A57DEB10C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S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0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7-1.jpg"/>
          <p:cNvPicPr/>
          <p:nvPr/>
        </p:nvPicPr>
        <p:blipFill>
          <a:blip r:embed="rId1"/>
          <a:stretch/>
        </p:blipFill>
        <p:spPr>
          <a:xfrm>
            <a:off x="2714760" y="3429000"/>
            <a:ext cx="4265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6B34-D780-4D8E-B484-01D33EE48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be managed differently from other typ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tegrated with other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must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must be properly chosen and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E may need train-the-train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9DCD-BC7A-4999-BE42-452CE102F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vice that helps an employee perform his/her job (while on the j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/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shoot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ol or ga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 or check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7-11.jpg"/>
          <p:cNvPicPr/>
          <p:nvPr/>
        </p:nvPicPr>
        <p:blipFill>
          <a:blip r:embed="rId1"/>
          <a:stretch/>
        </p:blipFill>
        <p:spPr>
          <a:xfrm>
            <a:off x="5786280" y="2286000"/>
            <a:ext cx="2633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25AE-E266-408B-B5CA-A0EB82973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visual performance aid with concepts from graphic artists’ 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reading, colour, boldness, graph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performance aids might save time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use of technology (electronic performance support syste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EB8C-42EE-432B-8134-F6A7A0D5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ainees are exposed to many jobs, functions and areas within an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ten used as an ongoing career-development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learn a variety of skills required for current and future jobs or colleagues’ jobs as done in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ross trai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926D-4C1F-4329-913E-E814A85DA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roved knowledge and ski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opportunities for career advanc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igher job satisfaction and sal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AAA6-A3DA-451C-A604-2535A61D9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 so that trainees receive sufficient exposure and experience on each assignment to make it worth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ilor assignments to each individual’s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 rotation should be only one component of a training program and learning process and supplemented with classroom instruction, coaching or men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7228-CE5F-475B-80B0-D529923C2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for skilled trades that combines OJT and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in Mediev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component (80%) teache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omponent (20%) teaches theory done in community colleges or “labour ha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system covers over  65 regulated occupations in four occupationa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61B1-D1B9-4407-9E97-42518E167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700280"/>
          <a:ext cx="7978680" cy="4465440"/>
        </p:xfrm>
        <a:graphic>
          <a:graphicData uri="http://schemas.openxmlformats.org/drawingml/2006/table">
            <a:tbl>
              <a:tblPr/>
              <a:tblGrid>
                <a:gridCol w="1995480"/>
                <a:gridCol w="2179440"/>
                <a:gridCol w="1810080"/>
                <a:gridCol w="1993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e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Vehi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w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M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&amp;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sty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4211-4D44-453F-B477-14460E949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 receives supervised training by a journeyperson; must pass a provincial exam to become 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period lasts between 1 and 5 years depending on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s are focused on collective training needs of specific occupations within broad industri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CD85-2337-408F-8938-53C77C051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learned are transferable within an occupation across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eal program (developed in 1950’s) promotes this transferability in specific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is advantageous when regional supply and demand fluct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26FB-57D9-4D41-87F3-EC5CFB420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n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st the advantages and disadvantages of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how and when to use each training metho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oaching process and how to design a coach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E7A-FDBC-43BF-913D-95DF9C2A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557360"/>
          <a:ext cx="8713800" cy="5349960"/>
        </p:xfrm>
        <a:graphic>
          <a:graphicData uri="http://schemas.openxmlformats.org/drawingml/2006/table">
            <a:tbl>
              <a:tblPr/>
              <a:tblGrid>
                <a:gridCol w="2327040"/>
                <a:gridCol w="2127240"/>
                <a:gridCol w="2000520"/>
                <a:gridCol w="2259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ial/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inter-provincial 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es &amp;  administer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tuition for in- school tr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school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OJ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income support during in-school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 and 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nd pays costs of on-the-job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3D11-4038-4EA2-BF99-8D7CC0AE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OI on investment in apprentices for emplo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skilled tradespersons increasing as current labour force 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cus on program enhancement/ expansion to meet needs of current/futur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7-21.jpg"/>
          <p:cNvPicPr/>
          <p:nvPr/>
        </p:nvPicPr>
        <p:blipFill>
          <a:blip r:embed="rId1"/>
          <a:stretch/>
        </p:blipFill>
        <p:spPr>
          <a:xfrm>
            <a:off x="5446800" y="2857680"/>
            <a:ext cx="3697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3C54-3B0C-44F5-939D-D3311B3B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values influencing youth and parents to select other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attract wider demographic into apprenticeship labour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luctance to offer apprenticeship programs and rely on existing labour market to meet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HR and Training professionals important in championing apprenticeships as effective recruitment and reten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9ECC-36EA-423E-BF48-4439D582F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-on-one individualized learning experience in which a more experienced and knowledgeable person is formally called upon to help another person develop their insights and techniques pertinent to the accomplishments of thei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1448-E8B5-419B-8814-0667FEE8A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lements in coach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opportunities in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upon set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trengths; weaknesses only if inhibi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, sett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identified, long-term pla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performs tasks, reports to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460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itted into employee’s goals and organization’s long-term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62A6-9FD3-4D56-A432-B01EB4B6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tion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enga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7F16-F5EE-429D-B5E3-605BEBC77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in enhancing interpersonal skills, communication skills, leadership skills, and self-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working relationships, job attitudes, increases rate of advancement and salar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in productivity, quality, customer service, retention; decreases in customer complaints,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4532-7892-449E-AE1D-94BA458D3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571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alogue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 must be able to relate to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should be par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-27.jpg"/>
          <p:cNvPicPr/>
          <p:nvPr/>
        </p:nvPicPr>
        <p:blipFill>
          <a:blip r:embed="rId1"/>
          <a:stretch/>
        </p:blipFill>
        <p:spPr>
          <a:xfrm>
            <a:off x="5857920" y="2143080"/>
            <a:ext cx="31068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587A-3611-4A5C-94CF-EE00ABA15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n which a senior member of an organization takes a personal interest in the career of a junio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coaching and counseling to a junior employee (the protég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d mentoring programs are emerging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narrower than coaching: career development of “junior” 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s generally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C2D8-9614-4EA5-A7C5-F28745FE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oles of a Men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, sponsorship, exposure, visibility, protection, and provision of challeng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, listening, counselling, feedback, role model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B83F-0F6D-45F7-82F9-8748FFC7D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entoring and describe how to develop a formal mentor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advantages/disadvantages of on-the-job and off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31E6-145C-4477-8628-175DC2E6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career progress of underrepresen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culture and values to newer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on accumulated wisdom of season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7-30.jpg"/>
          <p:cNvPicPr/>
          <p:nvPr/>
        </p:nvPicPr>
        <p:blipFill>
          <a:blip r:embed="rId1"/>
          <a:stretch/>
        </p:blipFill>
        <p:spPr>
          <a:xfrm>
            <a:off x="6000840" y="1428840"/>
            <a:ext cx="2967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E543-E868-4525-AAB4-34141A452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larity of roles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ent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mentors and protégé(s)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both mentors and protégé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mentor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pport fro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enefits for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624C-90B2-4A72-8B5B-AB172015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-the-job 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wide variety of training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rol training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numbers of trainees can be trained at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much more costly than on-the-job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raining environment differs from workplace, there are challenges regarding transfer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5476-349F-4134-B943-11BB7FE5F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2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ikelihood of application of training on-the-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-33A.jpg"/>
          <p:cNvPicPr/>
          <p:nvPr/>
        </p:nvPicPr>
        <p:blipFill>
          <a:blip r:embed="rId1"/>
          <a:stretch/>
        </p:blipFill>
        <p:spPr>
          <a:xfrm>
            <a:off x="5929200" y="221472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90B8-6CC0-40EC-8ED6-9D157CDD8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ions in work environment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damage when training on actu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service, or slow down of production,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1E7A-6D65-48CB-986C-D44C68289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ich Method is Bes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ost important is mixing and combining methods (blended delivery approach) to best suit a particular training need, objective, or any organiza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-33B.jpg"/>
          <p:cNvPicPr/>
          <p:nvPr/>
        </p:nvPicPr>
        <p:blipFill>
          <a:blip r:embed="rId1"/>
          <a:stretch/>
        </p:blipFill>
        <p:spPr>
          <a:xfrm>
            <a:off x="5572080" y="2928960"/>
            <a:ext cx="2529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F4A9-C105-47AF-ABC7-B18D47CF1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as most common yet also most misused and the need for planning and structure to achiev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pecific methods, their advantages and disadvantages, and the considera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mportance of selecting most appropriate method to meet training need, and value of blended delivery approach with off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F9ED-448C-4DF3-85AD-EDDAED03E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inee receives instruction and training at work station from a supervisor or experienced cowo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ommon approach 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useful for small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misuse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not well planned or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ssigned to train have no training to be tr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transfer of undesirable habits/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approach most 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C1DB-D200-471F-BCD4-C3D361AE5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ized, structured, and systematic approach to 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s the principles of behaviour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7-5.jpg"/>
          <p:cNvPicPr/>
          <p:nvPr/>
        </p:nvPicPr>
        <p:blipFill>
          <a:blip r:embed="rId1"/>
          <a:stretch/>
        </p:blipFill>
        <p:spPr>
          <a:xfrm>
            <a:off x="4643280" y="3357720"/>
            <a:ext cx="41086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EAA7-D721-41B4-B5A7-D7CF21F64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the job into small tasks, prepares equipment and supplies and allocates time to learn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mmunication strategy and what trainee already knows and nature of the task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ut trainee at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guarantee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build interest and show pers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1088-4C82-4A2E-ADDA-15CEC6050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, showing, explaining, and           demonstrat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nee how to perform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explain key points in                   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see whole job                      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7-7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4F93-F5D2-4D71-863B-0A0B5DAA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9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performs task under guidance from instructor who provides feedback and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rainee to perform less difficult parts of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perform entir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7-8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040-EB77-4412-831B-E00EFB89E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monitors performance and provid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tapers off instruction as employee gains confidenc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7-9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49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17:09Z</dcterms:modified>
  <cp:revision>299</cp:revision>
  <dc:subject/>
  <dc:title>Chapter 7</dc:title>
</cp:coreProperties>
</file>